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BDA-7EA8-45BA-A845-6D9E8D34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A96-6D63-4479-8038-7386EC72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0D2-BA5A-4A7E-ABCB-B582C6F9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370-BAF1-42DA-95DD-7F2987E4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58F-7C8F-453C-B0D8-A0802A88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EA0-2D4A-470F-99BF-5F7A6F05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B5D-5B58-46AA-9AAF-E991A33A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A59-6CE6-412B-A919-A96F8B0E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90E-8A51-4C16-9C6D-B49F68CD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12F-5062-4EBB-90BE-4A08BFE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AC0-9B48-4E97-8F8F-0D49E559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3C3-9FF3-46CF-959F-D033D583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A3AA7-215D-4A5B-AE91-855B82D484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480" y="985680"/>
            <a:ext cx="1008036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480" y="860400"/>
            <a:ext cx="1008036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480" y="906480"/>
            <a:ext cx="10080360" cy="588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